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9EF-3F93-441F-81CC-0FA215C3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7DA-CEBA-44E3-AE85-53503248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8838F-A4EB-49EC-B3A3-297AD6C8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AF8E0-6EAB-44BA-81C3-FB5E578C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B7AA9-F4D0-4397-AB4C-75B5B958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91904-E89E-4D77-A84F-16C8998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5A16B-14C0-4EF6-AC47-7E0B9435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5352D-320E-4C0A-8934-12ABEEB7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9D167-BF45-41B2-99A7-FE5B09AA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75650-C495-441A-AE0E-C8905AC1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DC184-DC56-442A-84CD-036179AA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6D0EE-6D29-4190-8DEC-0838E1FD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285-71E1-4978-B800-0560A8A5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C5923-90A9-476D-ABA8-A2E2B948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75885-795D-4320-A1F1-C6B83E4B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BB54A-70BC-47B7-9ED2-13A19D57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31213-646B-4FD2-ABC8-9407C7D0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75812-7F54-413A-BB74-E721A8AC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C4C75-6ADB-45CE-8CF5-65990BD6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EE5F6-6020-43D9-9946-0AD7767B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CBDEB-C028-42D3-A186-51A4EB75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239DD-010D-4CB1-A88E-D2CDBB6A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F2B0A-5C99-42E8-880B-42068F63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799-E82C-4704-8B96-4DE0CD12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DB83A-9086-42AC-9CC1-A514CABF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1BA8B-D521-4DB4-A6D5-B59A3CC5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F30EF-5E1F-4E92-B53C-C2DB37D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A188C-26A9-4518-9356-D03811A3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4227E-E610-4B6D-9560-BFF5AA6C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2E289-9E3E-447D-A63F-2E1973F8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9C664-A068-47B6-A67D-31794992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906A5-FA67-4190-9DC5-EC33957B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023BF-DAF8-4B28-9E41-F33CA01F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74E92-3ABF-4734-A1B2-F1E619A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4E12-CC16-4C49-8C81-5E68834D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5CD6E-A116-4412-B24E-D1393E89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5FC6E-AEBB-4243-BA01-52118CFC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17BE3-139E-4BA8-BB01-BA81F2F5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94FC8-954B-4A5D-9C76-1E940F9C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9C8A7-CE40-44D1-8EFD-3E91424D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82FD4-4755-4CEE-9BD4-3A074EA8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6A746-089C-4510-913B-D53AED8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13898-576A-495E-BBAB-3AF8E64A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250BF-FCB5-4AF4-B6E8-17E62BBD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C65CB-802B-43F0-84F9-405DC0CE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47A5-709E-463B-A800-02208018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D2DB6-CC28-48BF-8BF2-0A56AD8E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047DC-2E7D-4D43-BED1-6FAED935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04F20-A61B-4BFB-9284-0EB8D70C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56117-C052-4CDF-BBBD-924BEF66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CB314-D7C5-4872-B43E-03F86E1A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4E579-6F1B-446C-9734-6FF96D11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B0359-C1E7-4BAE-AD89-A2CFE55D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DAD91-A05F-49B3-8731-9C5DCBE3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D8E47-AF12-4912-B310-D32BC8B5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EB4D2-EDB6-49FB-903E-4D029B9E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9E93-0E95-45DB-9A45-E985C2E4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6C8F8-762D-4E41-87CD-3D6D8846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0731F-E0C4-4FA7-AB55-12BC711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24E56-7764-4882-80EB-7A97DD8F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8AB4F-7295-4A0D-9996-ADF6ED92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1802D-DDD6-4D79-9193-2571581C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C7302-F98F-40A9-AF05-6D52AA6E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5CC4D-E743-4EE6-A32F-E6EF2E20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67F03-9964-4AC1-9F1B-B6F7D914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96E43-8C2A-4278-ADEE-9BDAE235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660CB-1F83-4028-9505-96645F5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5DF6-6E84-47D4-8658-FC148A38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F4640-18AF-4167-A65C-079103AA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EA41A-F983-4B48-B7F5-F26079CD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28A4A-0FD3-4DBB-9B29-B3E5B51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34D95-4076-461F-81C9-3E86F05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EE4F5-8E6B-4AEE-8871-B68827DB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C023C-DDF1-41EA-A06F-7F38723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00CD7-612E-4AEE-80C6-F8459962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9A83B-0452-497F-A4B9-73CEF2D4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D88D4-7FD4-43A0-A1A3-A871FA56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7381C-2E65-4EF0-8FD9-36CD7993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7182-7C18-443C-9F20-CEAB8DE0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82999-914B-4842-B8DE-584FC5CE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2B979-B0CA-4028-86B9-CA396F07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B1260-B5EB-40B7-9EED-98DD3DD5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19ABB2-0B6C-404D-8739-F95DE3DE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96C36-1DB4-438F-9240-EB0A33E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6717E-05C1-4EF2-805C-EF46685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46420-543C-4834-A225-7D56269A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9DBB3-5DB7-48AF-B6E9-0077EB05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5A037-B45A-4F79-9AAF-C601AC07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00CFD-9766-4D2C-8A11-44B45364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B1BE-C59C-4A56-A16F-F2123639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FD2E7-F871-40EA-A79B-7A7487A8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8B1C-D7E4-45E1-9798-3C354F6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ACC-BBC5-4151-9213-8CFC85C9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0EE7-7012-4852-BD2F-1EA4540F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5FC3-67ED-4FD3-989E-0300215C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634E-FB45-4EAD-B7FF-935119FA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953A-00D4-4182-A581-4AF23BC2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166C-320C-4704-B8D7-186B7E9D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719C-43F4-4EE1-8C8D-E6F71048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C617-B7E7-460C-80E2-BFA35C5D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97D2-55C0-4960-AA32-E2D5F14F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11BE-9444-409A-8A19-E3232F75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05FE-9AF2-42D7-A54C-17FAF6E4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E8F-430B-47AC-834C-0604300E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520F-6184-47FD-9181-39EEB3E3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7B16-B6B0-4E37-B4E2-826F1648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2AF2-6D83-4000-8689-C3DA5AB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9878-6BB3-478D-AB71-B5155AD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54E6-1B0A-4151-88F6-FA99EF3D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FB0E-8139-4996-886F-0C8C68AD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EC4B-3A00-423D-958A-DF51ACF4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EDC9-04FE-4098-ACA1-AF8F1A3F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2018-33D9-49E5-9856-F2FA075E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B155-53F4-4678-A0BB-E9142D35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C9D-E12F-4A4A-A037-7829E512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969F-679C-4F36-900F-4D1BF04B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E4E6-E68A-403E-9D75-C617B880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46DF-6641-4900-952C-40404F6B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65322-3E1E-486A-B424-96B2291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EEF5-7CB8-4743-B6A5-9D2192B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D166-F0A4-4651-A3D2-8CBD807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1A1E5-9C68-411F-B02B-89E2EDEF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1235-3CB9-4D30-9A14-AE95780A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3372F-8FE6-4F40-B242-29D70AC1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7BDF1-06B5-450E-8754-4B38420C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607-D277-4270-8A11-7DD7FFAB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990C9-0240-43B7-B26E-AB38676B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D47D7-B9E4-4F2A-97D8-1E8FA62B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6A583-82BC-4D06-B108-B521240A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BA05-A488-4EC4-89F4-85E4DA9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7386-0EAD-44D6-9D60-F75821F4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6E155-B8A4-47D7-A751-1B4C3A4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E3A2A-E20E-4BB6-B0CD-09FA481F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2624-6986-4EF7-81EB-E919F8A0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F87A1-85CC-4669-9EFF-1D2E47DF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FB6B-2EFB-44B7-A7D6-1251F1CA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F63-5CD8-416A-9C9B-FF75C004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D08F3-B52F-4811-81D8-D4CB8903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1E160-8C43-4DF5-B367-26BFD9BF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A261-F836-4487-9032-F612B3E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C44F0-6506-4213-B1AF-19286815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97FC8-288D-4487-BF55-2E6DBB23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6AFE-5935-4AF6-859C-BA32A304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C93F-D98D-46AC-B290-8BA2EB4B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DF2B1-7332-4CC0-8D3E-83D787C1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52413-A511-4398-9946-E8F833E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F691F-83F7-4453-815D-9AE6A5CC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9C4-E2A1-4AAD-A355-D7ACFBDD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3CCA7-DA06-4505-9ADE-D4AB4475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82FCE-50AD-416B-8B02-97CBCF52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0AD54-BA4D-40F5-95FF-C0E3FC5E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AC48B-8792-4067-AC87-1054DCC9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4AE48-7107-4F5C-A808-895B0171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1D0C0-440F-4D47-9252-97C475BB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01346-9D80-4108-8561-86B2BC3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86989-9509-466D-B8B9-2076B521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27F49-9109-467F-B2E9-173F2F5B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83D11-CAAB-4533-892F-9F5ACB35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CDB-8C51-4B2D-8904-8CE9A170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FF36D-9AE6-4608-9AB5-B15734B9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1F83-BCEA-46FB-8B06-261DFDA9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C208E-8D19-4AE4-A42E-B4613AD1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94123-C466-489C-B5A6-657E9659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22F86-EDE4-442C-A55E-7404DD05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3403-9115-4D18-92E7-69459E71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A3658-446A-4D43-BD95-9226E21E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BB9F8-5947-4EA4-8027-24F9C1D7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E18D0-07CD-412E-939F-B849CAC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2A450-3203-4F8D-B747-21B3A567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1F3-FA40-4E2B-B22D-C7BDB7F9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13234-D93A-419D-8418-A8ED0BA5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C841-A00A-40F6-9523-2AFFD4F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17A9-8CB1-4437-A365-F30FF91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D5C7E-949C-435C-BEC5-685026C3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B479-ACD7-42DF-90B9-065653DE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170E9-93A7-4172-AB66-611703DD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45FE3-7A12-4F04-AA42-1D3FE2D5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3588D-A699-4AEA-BD43-90216BB2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18D6B-17A9-46CD-B4A5-D7B10EC1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C99F1-89C1-48C1-A624-6D10032A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6D83-C843-4B44-B492-21D20B8F183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2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2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2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31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32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34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C0A0-6C15-4AB0-9AC1-EBFA67BAD1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7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78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79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81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C30-B2B3-4E4A-BF9A-05478D32C70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A4C1-677D-4258-B890-323EFD81F1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DFE6-5EF1-4FDF-81FD-A13D530950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3DAE-D779-40E0-9593-81AB8EA7E6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649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5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A206-DF40-4C2A-A759-F2F97120AF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2859-4EF3-4E87-BE80-4FF3360318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85E6-BCA6-4460-A5AD-9076FD662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39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0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604F-2F2A-4972-A147-7FF8B222CC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6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7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8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9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0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5915-7C5E-4113-A12D-A5D95F66ECE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34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81AC-45B1-4FA3-AA74-3CFE964E70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1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2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6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CD3E-6B80-4E70-9086-04693404800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29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3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0875-7090-459D-A8D8-6FE160CE991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77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78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0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1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5F8B-EDF7-4CD6-B99E-9E0F54BB09D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одецкая роспись. Рисование кистью. Роспись прялки.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371600" y="3555720"/>
            <a:ext cx="7448400" cy="18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Выполнила Ванеева Юл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Студентка 642 групп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D:\документы\изо, труд\для конспекта городец\ГОРОДЕЦ\7960541.jpg"/>
          <p:cNvPicPr/>
          <p:nvPr/>
        </p:nvPicPr>
        <p:blipFill>
          <a:blip r:embed="rId1"/>
          <a:stretch/>
        </p:blipFill>
        <p:spPr>
          <a:xfrm>
            <a:off x="684360" y="1052640"/>
            <a:ext cx="7738920" cy="5306760"/>
          </a:xfrm>
          <a:prstGeom prst="rect">
            <a:avLst/>
          </a:prstGeom>
          <a:ln w="0">
            <a:noFill/>
          </a:ln>
        </p:spPr>
      </p:pic>
      <p:sp>
        <p:nvSpPr>
          <p:cNvPr id="727" name="TextBox 1"/>
          <p:cNvSpPr/>
          <p:nvPr/>
        </p:nvSpPr>
        <p:spPr>
          <a:xfrm>
            <a:off x="104292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libri"/>
              </a:rPr>
              <a:t>Разживка 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8" name="Управляющая кнопка: назад 3"/>
          <p:cNvSpPr/>
          <p:nvPr/>
        </p:nvSpPr>
        <p:spPr>
          <a:xfrm>
            <a:off x="250920" y="618012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Ярусная 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2" descr="D:\документы\изо, труд\для конспекта городец\ГОРОДЕЦ\photo95.jpg"/>
          <p:cNvPicPr/>
          <p:nvPr/>
        </p:nvPicPr>
        <p:blipFill>
          <a:blip r:embed="rId1"/>
          <a:stretch/>
        </p:blipFill>
        <p:spPr>
          <a:xfrm>
            <a:off x="4716360" y="1341360"/>
            <a:ext cx="3745080" cy="5085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" descr="D:\документы\изо, труд\для конспекта городец\ГОРОДЕЦ\normal_Петухи Городецкая роспись Мелентьева Оля 18 лет.jpg"/>
          <p:cNvPicPr/>
          <p:nvPr/>
        </p:nvPicPr>
        <p:blipFill>
          <a:blip r:embed="rId2"/>
          <a:stretch/>
        </p:blipFill>
        <p:spPr>
          <a:xfrm>
            <a:off x="684360" y="1341360"/>
            <a:ext cx="3457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D:\документы\изо, труд\для конспекта городец\ГОРОДЕЦ\9985916.jpg"/>
          <p:cNvPicPr/>
          <p:nvPr/>
        </p:nvPicPr>
        <p:blipFill>
          <a:blip r:embed="rId1"/>
          <a:stretch/>
        </p:blipFill>
        <p:spPr>
          <a:xfrm>
            <a:off x="4722840" y="947880"/>
            <a:ext cx="3816360" cy="5398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3" descr=""/>
          <p:cNvPicPr/>
          <p:nvPr/>
        </p:nvPicPr>
        <p:blipFill>
          <a:blip r:embed="rId2"/>
          <a:stretch/>
        </p:blipFill>
        <p:spPr>
          <a:xfrm>
            <a:off x="684360" y="947880"/>
            <a:ext cx="3851280" cy="5425920"/>
          </a:xfrm>
          <a:prstGeom prst="rect">
            <a:avLst/>
          </a:prstGeom>
          <a:ln w="0">
            <a:noFill/>
          </a:ln>
        </p:spPr>
      </p:pic>
      <p:sp>
        <p:nvSpPr>
          <p:cNvPr id="734" name="TextBox 2"/>
          <p:cNvSpPr/>
          <p:nvPr/>
        </p:nvSpPr>
        <p:spPr>
          <a:xfrm>
            <a:off x="1312920" y="33336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libri"/>
              </a:rPr>
              <a:t>Оттеневка 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5" name="Управляющая кнопка: назад 5"/>
          <p:cNvSpPr/>
          <p:nvPr/>
        </p:nvSpPr>
        <p:spPr>
          <a:xfrm>
            <a:off x="250920" y="62690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Детские творческие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37" name="Picture 2" descr="D:\документы\изо, труд\для конспекта городец\ГОРОДЕЦ\DSCN0383_0.JPG"/>
          <p:cNvPicPr/>
          <p:nvPr/>
        </p:nvPicPr>
        <p:blipFill>
          <a:blip r:embed="rId1"/>
          <a:stretch/>
        </p:blipFill>
        <p:spPr>
          <a:xfrm>
            <a:off x="378000" y="1316160"/>
            <a:ext cx="4479840" cy="54259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" descr="D:\документы\изо, труд\для конспекта городец\ГОРОДЕЦ\580800446.jpg"/>
          <p:cNvPicPr/>
          <p:nvPr/>
        </p:nvPicPr>
        <p:blipFill>
          <a:blip r:embed="rId2"/>
          <a:stretch/>
        </p:blipFill>
        <p:spPr>
          <a:xfrm>
            <a:off x="4816440" y="1305000"/>
            <a:ext cx="4132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871560" y="2276280"/>
            <a:ext cx="7408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творческий характер изображенного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соответствие изображенного теме урока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правильное изображение элементов городецкой росписи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правильное составление композици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Критерии оцени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Задание: создать композицию из элементов городецкой росписи для украшения прялк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1"/>
          <a:stretch/>
        </p:blipFill>
        <p:spPr>
          <a:xfrm>
            <a:off x="2700360" y="2146320"/>
            <a:ext cx="35244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849240" y="259920"/>
            <a:ext cx="7408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andara"/>
              </a:rPr>
              <a:t>Элементы городецкой росписи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585720" y="3284640"/>
            <a:ext cx="2043360" cy="28652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" descr="D:\документы\изо, труд\для конспекта городец\ГОРОДЕЦ\broidery_l0002.jpg"/>
          <p:cNvPicPr/>
          <p:nvPr/>
        </p:nvPicPr>
        <p:blipFill>
          <a:blip r:embed="rId2"/>
          <a:stretch/>
        </p:blipFill>
        <p:spPr>
          <a:xfrm>
            <a:off x="6203880" y="3284640"/>
            <a:ext cx="2617920" cy="29527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" descr="D:\документы\изо, труд\для конспекта городец\ГОРОДЕЦ\post-926589-1271850518.jpg"/>
          <p:cNvPicPr/>
          <p:nvPr/>
        </p:nvPicPr>
        <p:blipFill>
          <a:blip r:embed="rId3"/>
          <a:stretch/>
        </p:blipFill>
        <p:spPr>
          <a:xfrm>
            <a:off x="3257640" y="3284640"/>
            <a:ext cx="2560680" cy="3008160"/>
          </a:xfrm>
          <a:prstGeom prst="rect">
            <a:avLst/>
          </a:prstGeom>
          <a:ln w="0">
            <a:noFill/>
          </a:ln>
        </p:spPr>
      </p:pic>
      <p:sp>
        <p:nvSpPr>
          <p:cNvPr id="700" name="TextBox 3"/>
          <p:cNvSpPr/>
          <p:nvPr/>
        </p:nvSpPr>
        <p:spPr>
          <a:xfrm>
            <a:off x="382680" y="2492280"/>
            <a:ext cx="2449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4" action="ppaction://hlinksldjump"/>
              </a:rPr>
              <a:t>Петух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1" name="TextBox 4"/>
          <p:cNvSpPr/>
          <p:nvPr/>
        </p:nvSpPr>
        <p:spPr>
          <a:xfrm>
            <a:off x="2832120" y="2492280"/>
            <a:ext cx="358632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5" action="ppaction://hlinksldjump"/>
              </a:rPr>
              <a:t>Розан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6" action="ppaction://hlinksldjump"/>
              </a:rPr>
              <a:t> 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7" action="ppaction://hlinksldjump"/>
              </a:rPr>
              <a:t>и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8" action="ppaction://hlinksldjump"/>
              </a:rPr>
              <a:t> 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9" action="ppaction://hlinksldjump"/>
              </a:rPr>
              <a:t>купавка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6348240" y="2492280"/>
            <a:ext cx="23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fefd"/>
                </a:solidFill>
                <a:latin typeface="Candara"/>
              </a:rPr>
              <a:t>Конь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Донца городецких пряло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04" name="Picture 3" descr="D:\документы\изо, труд\для конспекта городец\ГОРОДЕЦ\Прялки - 51 городецкое донце.jpg"/>
          <p:cNvPicPr/>
          <p:nvPr/>
        </p:nvPicPr>
        <p:blipFill>
          <a:blip r:embed="rId1"/>
          <a:stretch/>
        </p:blipFill>
        <p:spPr>
          <a:xfrm>
            <a:off x="3492360" y="1657440"/>
            <a:ext cx="2414880" cy="49449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4" descr="D:\документы\изо, труд\для конспекта городец\ГОРОДЕЦ\12.jpg"/>
          <p:cNvPicPr/>
          <p:nvPr/>
        </p:nvPicPr>
        <p:blipFill>
          <a:blip r:embed="rId2"/>
          <a:stretch/>
        </p:blipFill>
        <p:spPr>
          <a:xfrm>
            <a:off x="609480" y="1657440"/>
            <a:ext cx="2316240" cy="49449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5" descr="D:\документы\изо, труд\для конспекта городец\ГОРОДЕЦ\14.jpg"/>
          <p:cNvPicPr/>
          <p:nvPr/>
        </p:nvPicPr>
        <p:blipFill>
          <a:blip r:embed="rId3"/>
          <a:stretch/>
        </p:blipFill>
        <p:spPr>
          <a:xfrm>
            <a:off x="6297480" y="1657440"/>
            <a:ext cx="22734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ик 1"/>
          <p:cNvSpPr/>
          <p:nvPr/>
        </p:nvSpPr>
        <p:spPr>
          <a:xfrm>
            <a:off x="900000" y="47628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панно посвящено преемственности живописного мастерства городецких донец, сохранению традиций городецкой росписи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ейшие городецкие мастера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08" name="Picture 2" descr=""/>
          <p:cNvPicPr/>
          <p:nvPr/>
        </p:nvPicPr>
        <p:blipFill>
          <a:blip r:embed="rId1"/>
          <a:stretch/>
        </p:blipFill>
        <p:spPr>
          <a:xfrm>
            <a:off x="792000" y="2724120"/>
            <a:ext cx="7775640" cy="3382920"/>
          </a:xfrm>
          <a:prstGeom prst="rect">
            <a:avLst/>
          </a:prstGeom>
          <a:ln w="0">
            <a:noFill/>
          </a:ln>
        </p:spPr>
      </p:pic>
      <p:sp>
        <p:nvSpPr>
          <p:cNvPr id="709" name="TextBox 2"/>
          <p:cNvSpPr/>
          <p:nvPr/>
        </p:nvSpPr>
        <p:spPr>
          <a:xfrm>
            <a:off x="673200" y="61070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.А. Мазин       Ф.С. Краснояров   И.К. Лебедев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Особенности городецкой роспис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39280" y="112500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Рисунок исполняется кисть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Цветовые пятна равномерно раскладываются на лист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Композиция статичная. Лица героев обращены к зрител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Разживка черным цветом и белильная объединяет различные цвета раскладк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Ярусная композиция помогает передать различные картины мира. В резном орнаменте прялки – картины мироздания, в живописном решении декора прялки – сцены жизни, прославляющие праздничные событ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2084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Этапы изображения роза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13" name="Picture 2" descr="D:\документы\изо, труд\для конспекта городец\ГОРОДЕЦ\gorodec-new.jpg"/>
          <p:cNvPicPr/>
          <p:nvPr/>
        </p:nvPicPr>
        <p:blipFill>
          <a:blip r:embed="rId1"/>
          <a:stretch/>
        </p:blipFill>
        <p:spPr>
          <a:xfrm>
            <a:off x="2195640" y="1268280"/>
            <a:ext cx="4680000" cy="5419800"/>
          </a:xfrm>
          <a:prstGeom prst="rect">
            <a:avLst/>
          </a:prstGeom>
          <a:ln w="0">
            <a:noFill/>
          </a:ln>
        </p:spPr>
      </p:pic>
      <p:sp>
        <p:nvSpPr>
          <p:cNvPr id="714" name="Управляющая кнопка: назад 5"/>
          <p:cNvSpPr/>
          <p:nvPr/>
        </p:nvSpPr>
        <p:spPr>
          <a:xfrm>
            <a:off x="1258920" y="640080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360" y="3132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Этапы изображения петух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716" name="Picture 2" descr="D:\документы\изо, труд\для конспекта городец\ГОРОДЕЦ\medium_2.jpg"/>
          <p:cNvPicPr/>
          <p:nvPr/>
        </p:nvPicPr>
        <p:blipFill>
          <a:blip r:embed="rId2"/>
          <a:stretch/>
        </p:blipFill>
        <p:spPr>
          <a:xfrm>
            <a:off x="1332000" y="925560"/>
            <a:ext cx="7018200" cy="5322960"/>
          </a:xfrm>
          <a:prstGeom prst="rect">
            <a:avLst/>
          </a:prstGeom>
          <a:ln w="0">
            <a:noFill/>
          </a:ln>
        </p:spPr>
      </p:pic>
      <p:sp>
        <p:nvSpPr>
          <p:cNvPr id="717" name="Управляющая кнопка: назад 3"/>
          <p:cNvSpPr/>
          <p:nvPr/>
        </p:nvSpPr>
        <p:spPr>
          <a:xfrm>
            <a:off x="1116000" y="6308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10800"/>
                </a:moveTo>
                <a:lnTo>
                  <a:pt x="33859" y="3794"/>
                </a:lnTo>
                <a:lnTo>
                  <a:pt x="33859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Этапы изображения ко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" descr="D:\документы\изо, труд\для конспекта городец\ГОРОДЕЦ\4e0f3ad0ece081c09d2938e83145117d.jpg"/>
          <p:cNvPicPr/>
          <p:nvPr/>
        </p:nvPicPr>
        <p:blipFill>
          <a:blip r:embed="rId3"/>
          <a:stretch/>
        </p:blipFill>
        <p:spPr>
          <a:xfrm>
            <a:off x="971640" y="888840"/>
            <a:ext cx="7988040" cy="5635800"/>
          </a:xfrm>
          <a:prstGeom prst="rect">
            <a:avLst/>
          </a:prstGeom>
          <a:ln w="0">
            <a:noFill/>
          </a:ln>
        </p:spPr>
      </p:pic>
      <p:sp>
        <p:nvSpPr>
          <p:cNvPr id="721" name="Управляющая кнопка: назад 6"/>
          <p:cNvSpPr/>
          <p:nvPr/>
        </p:nvSpPr>
        <p:spPr>
          <a:xfrm>
            <a:off x="1116000" y="6308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10800"/>
                </a:moveTo>
                <a:lnTo>
                  <a:pt x="33859" y="3794"/>
                </a:lnTo>
                <a:lnTo>
                  <a:pt x="33859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Разновидности композиц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23" name="Picture 2" descr="D:\документы\изо, труд\для конспекта городец\ГОРОДЕЦ\1257285436_15.gif"/>
          <p:cNvPicPr/>
          <p:nvPr/>
        </p:nvPicPr>
        <p:blipFill>
          <a:blip r:embed="rId1"/>
          <a:stretch/>
        </p:blipFill>
        <p:spPr>
          <a:xfrm>
            <a:off x="250920" y="1392120"/>
            <a:ext cx="4249800" cy="45579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" descr="D:\документы\изо, труд\для конспекта городец\ГОРОДЕЦ\1257285446_16.gif"/>
          <p:cNvPicPr/>
          <p:nvPr/>
        </p:nvPicPr>
        <p:blipFill>
          <a:blip r:embed="rId2"/>
          <a:stretch/>
        </p:blipFill>
        <p:spPr>
          <a:xfrm>
            <a:off x="4697280" y="1413000"/>
            <a:ext cx="4226040" cy="4537080"/>
          </a:xfrm>
          <a:prstGeom prst="rect">
            <a:avLst/>
          </a:prstGeom>
          <a:ln w="0">
            <a:noFill/>
          </a:ln>
        </p:spPr>
      </p:pic>
      <p:sp>
        <p:nvSpPr>
          <p:cNvPr id="725" name="Управляющая кнопка: далее 3"/>
          <p:cNvSpPr/>
          <p:nvPr/>
        </p:nvSpPr>
        <p:spPr>
          <a:xfrm>
            <a:off x="179280" y="6165720"/>
            <a:ext cx="505080" cy="28764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908" h="21600">
                <a:moveTo>
                  <a:pt x="0" y="0"/>
                </a:moveTo>
                <a:lnTo>
                  <a:pt x="37908" y="0"/>
                </a:lnTo>
                <a:lnTo>
                  <a:pt x="37908" y="21600"/>
                </a:lnTo>
                <a:lnTo>
                  <a:pt x="0" y="21600"/>
                </a:lnTo>
                <a:close/>
              </a:path>
              <a:path fill="lightenLess" w="37908" h="21600">
                <a:moveTo>
                  <a:pt x="0" y="0"/>
                </a:moveTo>
                <a:lnTo>
                  <a:pt x="37908" y="0"/>
                </a:lnTo>
                <a:lnTo>
                  <a:pt x="36508" y="1400"/>
                </a:lnTo>
                <a:lnTo>
                  <a:pt x="1400" y="1400"/>
                </a:lnTo>
                <a:close/>
              </a:path>
              <a:path fill="darken" w="37908" h="21600">
                <a:moveTo>
                  <a:pt x="37908" y="0"/>
                </a:moveTo>
                <a:lnTo>
                  <a:pt x="37908" y="21600"/>
                </a:lnTo>
                <a:lnTo>
                  <a:pt x="36508" y="20200"/>
                </a:lnTo>
                <a:lnTo>
                  <a:pt x="36508" y="1400"/>
                </a:lnTo>
                <a:close/>
              </a:path>
              <a:path fill="darkenLess" w="37908" h="21600">
                <a:moveTo>
                  <a:pt x="37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08" y="20200"/>
                </a:lnTo>
                <a:close/>
              </a:path>
              <a:path fill="lighten" w="37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08" h="21600">
                <a:moveTo>
                  <a:pt x="11948" y="3794"/>
                </a:moveTo>
                <a:lnTo>
                  <a:pt x="25960" y="10800"/>
                </a:lnTo>
                <a:lnTo>
                  <a:pt x="11948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1:01:50Z</dcterms:created>
  <dc:creator>Йохохоууу)))))))))</dc:creator>
  <dc:description/>
  <dc:language>en-US</dc:language>
  <cp:lastModifiedBy>студент</cp:lastModifiedBy>
  <dcterms:modified xsi:type="dcterms:W3CDTF">2011-06-15T06:01:05Z</dcterms:modified>
  <cp:revision>25</cp:revision>
  <dc:subject/>
  <dc:title>Городецкая роспись. Рисование кистью. Роспись прялки.</dc:title>
</cp:coreProperties>
</file>